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DE4-296B-43F1-ADB1-F8E51D8C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DDD-F87E-4615-A09F-4812AD67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8CC-67D2-4817-901E-E74B5131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8FD-0D94-4EAE-B6E1-D1AFCF60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81F-5363-4F54-A4A9-3EBBA8B9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32D-0373-4A58-82BE-25B78351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88F-256E-4C02-A455-52BF3458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893-DCA2-4332-88BE-3A5A31DF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FC8-BB4E-4421-B3CB-81317786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577-DA9D-4736-A603-708AB7F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F5F-7359-4053-A1F0-789AD606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1B3-45B2-4A7F-ABC3-F0045E4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96CF-5E6A-405A-906F-82530E1DF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get a chart into my pres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lid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 L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45080" y="1600200"/>
          <a:ext cx="402732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1600200"/>
                    <a:ext cx="402732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via Excel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ype = Microsoft Excel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l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 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67400" y="2519280"/>
          <a:ext cx="4100400" cy="26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7400" y="2519280"/>
                    <a:ext cx="410040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ed to Excel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from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check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 L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14800" y="2962440"/>
            <a:ext cx="4289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orkbook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e 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 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808360"/>
            <a:ext cx="403848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3:35:22Z</dcterms:created>
  <dc:creator>klanders</dc:creator>
  <dc:description/>
  <dc:language>en-US</dc:language>
  <cp:lastModifiedBy>Riverview Intermediate Unit #6</cp:lastModifiedBy>
  <dcterms:modified xsi:type="dcterms:W3CDTF">2008-07-09T17:58:28Z</dcterms:modified>
  <cp:revision>8</cp:revision>
  <dc:subject/>
  <dc:title>How do I get a chart into my presentation?</dc:title>
</cp:coreProperties>
</file>